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21EB-F059-44C0-9E3C-8AAB1D30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9E75-EDD4-4B3D-9E00-F706C8C3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1F52-5DBD-4559-B919-32374394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F6A8-DB2F-493B-9899-87D75D07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40C9-2685-4344-B4AC-5EE8A22F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8713-154B-46F8-8F8E-DC5CCCFC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0093-CBD2-4E40-83CE-0E5217BC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97EC-AFC9-4A28-81C6-A38FD24C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A16F-DF52-47EC-8115-1555B343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6C56-E795-4762-9FF1-AEE78D45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8B69-96BE-4197-89F3-7277A6B1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F819-49DD-4F25-8F4F-517A1BF8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A2D9-00BB-43C8-8BD7-777523854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inguished Gradua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ed Plan + a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ear of FL +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4 advanced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must take biology, chemistry, physics + 1 science elective (cannot be IP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asures must focus on demonstrated student performance at the college or professional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must achieve any combination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 research/projec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dged by a panel of professionals in the field that is the focus of the project; or conducted under the direction of mentor(s) and reported to an appropriate audience;  may not be used for more than two of the four meas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8006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191120"/>
            <a:ext cx="91440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st 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core of three or above on AP ex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core of four or above on IB ex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core on the PSAT that qualifies the student for recognition as a Commended Scholar or higher by the National Merit Corp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lege Cours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 grade of 3.0 (B) or higher that count for college credit, including tech-prep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02:47Z</dcterms:created>
  <dc:creator>Technology Services</dc:creator>
  <dc:description/>
  <dc:language>en-US</dc:language>
  <cp:lastModifiedBy>Technology Services</cp:lastModifiedBy>
  <dcterms:modified xsi:type="dcterms:W3CDTF">2011-02-28T20:34:43Z</dcterms:modified>
  <cp:revision>5</cp:revision>
  <dc:subject/>
  <dc:title>Distinguished Graduation Plan</dc:title>
</cp:coreProperties>
</file>